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F9C3-5848-4B61-9D13-7FA1656C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CBB-5FF6-4CDE-901D-FE25627E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8196-3EBF-4424-A383-5B5D5C97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5A0-127B-46FE-B6E9-0EFD49AB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4694-3247-4295-BCC6-38BDDD82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B3A7-169F-4BB5-8FB6-472F2689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7D2C-FC1B-442F-9649-56C07612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4C81-8EEB-4F66-9DBD-E65FC9B8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C7CB-A827-4B7F-AF56-00EE6290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0218-3011-4D7A-B6F1-AC03AC27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F977-60CE-413D-97B7-9B9AD779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568-5219-4204-A28B-2FE418C7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BB80-0B45-4909-B17B-F0CA9FC6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FDB2-4822-4BC0-A06B-DD921807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EC19-1D90-4305-9AFB-73DE84D1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1352-6B33-4DFC-BCCB-5DE2A0D0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C22D-8227-4CA7-AE83-743A3F1D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93F-9519-4A04-8B60-78742D36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A78A-4777-4671-A02D-C3DCF4C2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A78-C40E-44A9-B27B-50A93FF1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505C-1F74-4558-8B3E-6BD9F4F0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6804-FA14-4133-887D-D3D649DB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F9D8-79C4-4A08-A87C-750B1D3C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0E5-CCB7-436E-AD62-CA78A5E7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C8C0-31CE-4CF7-BC4F-57B203A7B08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FE06-C7B6-4D16-8D05-748B484A1CA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4114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od morning! 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ease take a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½ shee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ake out your “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The Enlightenment in Europe: Guided Notes 1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362320" y="324000"/>
            <a:ext cx="47624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ilosopher Jigsa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ou will be part of an “Expert Group” on one philosoph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hn Locke = DIAMON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ean-Jacques Rousseau = HEAR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aron de Montesquieu = CLUB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omas Hobbes = SPAD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4724280"/>
            <a:ext cx="1623960" cy="1981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90920" y="4724280"/>
            <a:ext cx="1527120" cy="2024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rcRect l="0" t="0" r="0" b="18632"/>
          <a:stretch/>
        </p:blipFill>
        <p:spPr>
          <a:xfrm>
            <a:off x="4646520" y="4724280"/>
            <a:ext cx="1525680" cy="2057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781680" y="4772160"/>
            <a:ext cx="165276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ilosopher Jigsa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your EXPERT GROUPS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ke a circle/hub with your desk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n do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Part 1 ONLY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eaeaea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d your biographies, answer Q’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eaeaea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mmarize your philosoph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eaeaea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ill out “Philosopher” side of your Government survey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6239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3 minute stretch break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6766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ilosopher Jigsa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ou will make new groups according to the number at the top of your Philosopher’s biograph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ou will be the EXPERT on your philosopher in the new group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ou will meet three other philosopher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ait, wait, don’t move yet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238880" y="4267080"/>
            <a:ext cx="152712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ilosopher Jigsa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rt 2 - # group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troductions and not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VERYONE MAKE THIS CHANGE FOR STEP 2 and 3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Instead of choosing 4 statements from your surveys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Write these questions at top of “Statement #” table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Who should rule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How should rulers be chosen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What is the ideal (best) form of government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an people be trusted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18632"/>
          <a:stretch/>
        </p:blipFill>
        <p:spPr>
          <a:xfrm>
            <a:off x="7162920" y="4267080"/>
            <a:ext cx="1525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ilosopher Jigsa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kay, now JIGSAW to your new groups (by #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rt with introductions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05320" y="3429000"/>
            <a:ext cx="1454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Your “Exit Ticket” out of class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fore you leave class today, you must complete a Philosopher Jigsaw EXIT TICKE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Exit Ticket is a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½ gray shee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You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will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stay after class if you do not finish your Exit Ticke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ink about “morals” over the weekend. BE SAFE and have fun! 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361280" y="2438280"/>
            <a:ext cx="14018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ink Now! Connect Tw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ease take a ½ shee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ake out your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The Enlightenment in Europe: Guided Notes 1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mplete the ½ sheet ON YOUR OW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3600" y="1162080"/>
            <a:ext cx="2114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ink Now! Connect Tw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 you have finished the ½ sheet, pick one connection you made that you are willing to share with the class.  Everyone must pick one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66880" y="3886200"/>
            <a:ext cx="35816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Homework due MONDAY, 10/17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The Enlightenment in Europe: Guided Notes 2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apter 22, Section 2 – the rest of it. Fill out not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You have a QUIZ on Section 2 on Monda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is i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does it connect to u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7543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overnment Surve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N YOUR OWN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ad the statements and think about YOUR opinion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o you AGREE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o you DISAGREE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ink about why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gnore “Philosopher” par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477120" y="2895480"/>
            <a:ext cx="19047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ilosopher Jigsa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ou will be part of an “Expert Group” on one philosoph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hn Lock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ean-Jacques Roussea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aron de Montesquie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omas Hobb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4724280"/>
            <a:ext cx="1623960" cy="198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590920" y="4724280"/>
            <a:ext cx="1527120" cy="2024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0" t="0" r="0" b="18632"/>
          <a:stretch/>
        </p:blipFill>
        <p:spPr>
          <a:xfrm>
            <a:off x="4646520" y="4724280"/>
            <a:ext cx="1525680" cy="2057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927840" y="4495680"/>
            <a:ext cx="1454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ilosopher Jigsa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ou will be part of an “Expert Group” on one philosoph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hn Lock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ean-Jacques Roussea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aron de Montesquie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omas Hobb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4724280"/>
            <a:ext cx="1623960" cy="198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90920" y="4724280"/>
            <a:ext cx="1527120" cy="2024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rcRect l="0" t="0" r="0" b="18632"/>
          <a:stretch/>
        </p:blipFill>
        <p:spPr>
          <a:xfrm>
            <a:off x="4646520" y="4724280"/>
            <a:ext cx="1525680" cy="2057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781680" y="4772160"/>
            <a:ext cx="165276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ilosopher Jigsa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your EXPERT GROUPS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ke a circle/hub with your desk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n do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Part 1 ONLY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eaeaea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d your biographies, answer Q’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eaeaea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mmarize your philosoph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eaeaea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ill out “Philosopher” side of your Government survey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3:15:51Z</dcterms:created>
  <dc:creator>MCPASD</dc:creator>
  <dc:description/>
  <dc:language>en-US</dc:language>
  <cp:lastModifiedBy>MCPASD</cp:lastModifiedBy>
  <dcterms:modified xsi:type="dcterms:W3CDTF">2011-10-13T14:29:38Z</dcterms:modified>
  <cp:revision>6</cp:revision>
  <dc:subject/>
  <dc:title>THE POWER!</dc:title>
</cp:coreProperties>
</file>